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0FDDD-4173-4A77-9A83-6EB06722A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58903-58F5-4D21-A1BE-CFD6E92F7A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FF2F9-D06E-43AB-94BD-A65EA1E64A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FF6A8-78E1-4FCB-A329-369F0F3B5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89FA3-0AB8-4496-B603-58F60AFA0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D20FE-2596-4925-93AD-CC32E3B18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84898-5F4A-40AE-8913-EC5683FFB2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A1F09-7289-4877-828B-9DE84A3564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E5D73-329C-466D-8C8F-842AB4C2B5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79123-F0EF-425A-929D-5C92DBA756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8CAA2-1304-49DE-84BC-980C091DBD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1FDF7-2576-4526-96B4-F4DA2530DC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FE51E-296F-4E52-B194-1DAF8F7082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67946-1C06-4C89-9F88-F60FBA463F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00202-D1F7-4181-9361-67837A8EB1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0BB7-84ED-4BAC-A5F5-DFA69E062B5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8E10-E632-4AB2-B700-F09531A179A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16F2-3869-4882-B3D7-04B05A2C51C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7CAF-499F-420A-B1F2-46C8D87550A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01DE-679D-4130-B712-27B47C15C85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5FCD-2741-452F-B49E-5843F850EDE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37D0-2981-4F0A-8A24-DF32EAE85F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A31A2-E921-4653-862A-D250917496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8EC2-5B12-4075-A44D-B5C4CDEA099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F892-CBE7-4D2C-8334-A50F749BD56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96CB-507A-45C3-B4A2-58603E2FC6B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FE5B-5816-4155-9CA2-EBACB08FBF5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15D5-F85E-47A5-8A99-AFA6A319F0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7EF98-E35C-4E51-8656-D5987A04FB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FD7D5-4F84-4AEF-BB7B-388417F403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F1CC0-33F1-4F1F-A1BD-F09A790D15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9DAE5-AD2C-43F8-A88B-D23DC1A67B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7485F-440D-471F-93D9-2A2CDDEB2D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8E890-9E55-4568-AD63-E5839860B0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216BC-1BEA-4000-8242-D0B16A220D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661EA-927A-49D0-8AC4-9AD2DA62F4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F98EA-FDC0-48D1-983E-8FBF566269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EQA Scheme Organization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36AC-D38F-4300-BEDE-956F0E43F3A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interests of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ims an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fidentiality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cknowled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m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381B2-189C-41C2-AFE2-C00EC3D4F0E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ries, feedback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ference” role of the EQA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s and recommendation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participating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solv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recommending certai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2514600" cy="1884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05320" y="4343400"/>
            <a:ext cx="5105160" cy="1641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erfect is not too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mu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39F20-7D2A-4E10-BF11-4CC343FC9DD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 already controlled by a international EQA organ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involve the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i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non-contaminat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good communication strate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ay careful attention to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SimSun"/>
              </a:rPr>
              <a:t>Starting an EQA Program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7d"/>
                </a:solidFill>
                <a:latin typeface="Verdana"/>
                <a:ea typeface="SimSu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E5DCF-5211-4E3F-838C-F05176975DE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638680" y="20574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148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163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164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165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170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74"/>
              <p:cNvSpPr/>
              <p:nvPr/>
            </p:nvSpPr>
            <p:spPr>
              <a:xfrm>
                <a:off x="22654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173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174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179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184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188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191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197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200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203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0A50B-5D93-471B-A70A-7836DB0D572B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proficiency testing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 of laboratories – interlaboratory comparisons/re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on-site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CE915-98EF-4145-AB78-43299C1E66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rior Participation (and Success!) in a PT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SimSun"/>
              </a:rPr>
              <a:t>need to subscribe to a foreign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monitor its ow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mperative and oblig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 question of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8C74C-6D84-4C93-998F-6DC622962E7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Involve th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guarantees </a:t>
            </a:r>
            <a:r>
              <a:rPr b="0" lang="en-GB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ed to the institution’s man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mean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liaise with operating licensing / certification / accreditation / national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(EQA activitie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reate savings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them is worth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00800" y="3962520"/>
            <a:ext cx="2133720" cy="21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F93D4-ECA0-4C46-BA29-B801759E5B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im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roficienc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, stained or uns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Gram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acid-fast bacilli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of bacterial st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nteric microorganisms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Rechec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 (AFB, Gram, CSF,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bacterial strains if materials and technical capability is present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strain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4952880" y="23623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0AE6C-BE45-46D6-8BFE-A6E9C9006E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m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mall number of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ilot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verify transport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ries for a tes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outside of the pr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first study with basic materials (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ries for the fir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items per parcel (minimum 2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2151360" cy="2590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9759200">
            <a:off x="7238880" y="22096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9C5D3-7DB2-45B7-927B-4473B519E3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SimSun"/>
              </a:rPr>
              <a:t>Start with Non-Contaminat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n the beginning, avoid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dangerous” pathoge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ntaminated s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follow national transportation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750C3-7A5C-4AD6-AB83-6BC93F0490D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hysical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al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small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FA42A-D86C-4FDE-BB12-E9117FA90CC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articipating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scientific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rofession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ny other with interest in 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EQ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F72EF-0CEF-43A5-B2C6-873F4501EEA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Robin Barteluk</cp:lastModifiedBy>
  <dcterms:modified xsi:type="dcterms:W3CDTF">2008-11-28T02:21:01Z</dcterms:modified>
  <cp:revision>12</cp:revision>
  <dc:subject/>
  <dc:title>EQA scheme Organization optional</dc:title>
</cp:coreProperties>
</file>